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964-D74D-44AC-A9F5-33455F81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D9F-5041-46F8-A2CF-FA56A4D4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057-325E-4566-815D-C4F9A5D4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5FD-5969-4B53-915E-DB870300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4D4-B7AA-4BAF-9BC0-F267F254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377-6063-40EE-A2CE-9E918C52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610-EB9D-4E9C-AA2C-2A531049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AC3-5924-458C-A7D6-C18DD81E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B44-3083-4B59-9EE5-3AAF892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AA8-37FF-4BB4-87A7-CF52A9D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600-DB6A-403C-A97E-D6835C6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399-4D35-4D8C-9532-483CCC7E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8A8-C87C-401C-B6D6-3A63E80D2B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cc0099"/>
                </a:solidFill>
                <a:uFillTx/>
                <a:latin typeface="Comic Sans MS"/>
              </a:rPr>
              <a:t>Cinq bis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57600" y="1981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10080" y="1981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2920" y="1981080"/>
            <a:ext cx="153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Un bisou pour mon lap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510000" cy="523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ux bisous pour mon pouss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4672080" cy="375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905120" y="205740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Trois bisous pour mon poula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4672080" cy="395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19320" y="17524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09680" y="205740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Quatre bisous pour mon chi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71920" y="1981080"/>
            <a:ext cx="4672080" cy="395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90720" y="160020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33720" y="19051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352680" y="236232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Cinq bisous pour mon dauph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37320" y="1905120"/>
            <a:ext cx="3406680" cy="412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828800" y="17524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971800" y="17524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114800" y="190512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s bisous, tout plein, tout pl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8120" y="838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86200" y="2362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10666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62720" y="1981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248520" y="1219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238880" y="15238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2362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1676520" y="1523880"/>
            <a:ext cx="153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09480"/>
            <a:ext cx="9144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Un bisou pour mon lap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ux bisous pour mon pouss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Trois bisous pour mon poula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Quatre bisous pour mon chi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Cinq bisous pour mon dauph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s bisous, tout plein, tout pl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3:58:17Z</dcterms:created>
  <dc:creator>florence barats</dc:creator>
  <dc:description/>
  <dc:language>en-US</dc:language>
  <cp:lastModifiedBy>Teacher</cp:lastModifiedBy>
  <dcterms:modified xsi:type="dcterms:W3CDTF">2006-03-31T21:12:59Z</dcterms:modified>
  <cp:revision>3</cp:revision>
  <dc:subject/>
  <dc:title>Cinq bisous</dc:title>
</cp:coreProperties>
</file>